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A81-59E9-45E4-A92C-7B54066C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2AC-49AD-4814-A76B-7A252679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B9C-9F91-4832-97F2-3CB7BAA6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5D7-335E-48E5-BA92-F2D01B1B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77A-EEE9-49DF-9A10-1D485279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7B6-C568-4D38-8F83-62161977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37D-05E2-4367-8C13-ECB784E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415-F1C4-4FB4-ABB7-7D79B7A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D5F-F724-4F77-8E12-A59B097A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A0A-130B-438B-B0BA-69BE4B27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A49-12FA-4832-8EF2-0652C582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85B-F87C-4A43-9E3A-04C28CE2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12EA-456E-4704-84CB-E4E256753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609480"/>
          <a:ext cx="8229600" cy="52801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s &am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shine 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s &amp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udents Will: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/ 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27:01Z</dcterms:created>
  <dc:creator>Candice</dc:creator>
  <dc:description/>
  <dc:language>en-US</dc:language>
  <cp:lastModifiedBy>Candice</cp:lastModifiedBy>
  <dcterms:modified xsi:type="dcterms:W3CDTF">2007-04-04T21:27:14Z</dcterms:modified>
  <cp:revision>1</cp:revision>
  <dc:subject/>
  <dc:title>Week:</dc:title>
</cp:coreProperties>
</file>